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580-148D-4818-8E99-D10FF32A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D52-D3E9-4167-98F8-F1357122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0DC-1F8C-490E-ADCD-3D1AED72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64D-0A2D-43EA-9691-11B0A887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5B3-726D-4E5D-AA4F-33C1BE10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595-03F0-42D7-8D23-63E0A7CB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D06-5294-4974-9E8D-101324C8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0AD-EE3D-437E-915D-D1824C63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C18-72DC-477A-BF3C-F4B1A65C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81F-BE6B-4C15-AD66-6337C3B4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183-DDF9-4808-BE11-D320D1B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F83-A59F-483C-AA25-C6106727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39382-1A6C-411A-BCE0-7DEAC3131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62FAC-B002-4F65-B672-3271F3AA7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Describe yesterday’s weather.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7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How are stationary and warm fronts similar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Which type of front causes thunderstorms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9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If a cold front is moving toward Clarksdale, what kind of weather should we expect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L” stands for low pres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Low pressure usually causes rain and storm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” stands for high pres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igh pressure usually predicts nice wea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1. What is the effect of low pressur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2. What is the effect of high pressur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nt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035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ld fronts are shown as a line of blue triang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Warm fronts are shown as a line of red half-circ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tationary fronts are shown as a line of alternating blue triangles and red circl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Occluded fronts are shown as a line of purple triangles and cir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 u="sng">
                <a:solidFill>
                  <a:srgbClr val="000000"/>
                </a:solidFill>
                <a:uFillTx/>
                <a:latin typeface="Calibri"/>
              </a:rPr>
              <a:t>Fronts move in the direction of the shapes.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697280" y="3710160"/>
            <a:ext cx="444672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248000" y="847800"/>
            <a:ext cx="3116520" cy="2511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46160" y="360360"/>
            <a:ext cx="2925720" cy="318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15970" t="33114" r="44965" b="48239"/>
          <a:stretch/>
        </p:blipFill>
        <p:spPr>
          <a:xfrm>
            <a:off x="1611360" y="5203800"/>
            <a:ext cx="3220920" cy="836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4"/>
          <a:stretch/>
        </p:blipFill>
        <p:spPr>
          <a:xfrm>
            <a:off x="6456240" y="3078000"/>
            <a:ext cx="12369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Calibri"/>
              </a:rPr>
              <a:t>4.10 Independent Practice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957960" y="484812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am challenge 2 will be tomorr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4.10 Weather Maps Background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Does a cold front cause the temperature to increase or decrease?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Does a warm front cause the temperature to increase or decrease?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Does an occluded front cause the temperature to increase or decrease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oes a stationary front cause the temperature to increase or decreas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What kind of precipitation does a stationary front cause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6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What kind of precipitation does a cold front cause?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4:02:51Z</dcterms:created>
  <dc:creator>Caroline Roth</dc:creator>
  <dc:description/>
  <dc:language>en-US</dc:language>
  <cp:lastModifiedBy>Caroline Roth</cp:lastModifiedBy>
  <dcterms:modified xsi:type="dcterms:W3CDTF">2011-05-24T02:48:18Z</dcterms:modified>
  <cp:revision>9</cp:revision>
  <dc:subject/>
  <dc:title>Bellringer</dc:title>
</cp:coreProperties>
</file>